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8D3-0774-4955-8438-EC2863B1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6C3-140C-4931-B292-249FA35A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DA5-9ABD-4250-84FE-A7C290B8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2B1-0FFF-4789-AECE-8210B56B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29A-E753-4C89-8560-18FEFF69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50E-8007-454C-8A4D-676BEC9E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74F-DF51-4069-847D-A52DDEF0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C56-3E9F-464C-8E9C-432D14EA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9B9-881F-4C2C-B5D0-B9AAB7D0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FED-1A5C-486F-AC73-81C3CA3A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D3F-91E7-46B2-A6E7-E60373BE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E3C-9ED6-46E8-991D-0303BD0A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00CC-7116-41A2-828D-24AF06B27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nventors.about.com/od/rstartinventions/a/Rubik_Cube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freeplaymusic.com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eb.mit.edu/invent/iow/rubik.html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68580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ubik's Cub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4267080"/>
            <a:ext cx="2492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024520"/>
            <a:ext cx="38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.com: Inventor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ubik and the Cube – Rubik’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e, March 9, 201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ventors.about.com/od/rstartinventions/a/Rubik_Cub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371600" y="3048120"/>
            <a:ext cx="1671480" cy="175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8120" y="3276720"/>
            <a:ext cx="2133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bik’s cube has many alignments, but only one is cor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624852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eppin Up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11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7242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Safar"/>
          <p:cNvPicPr/>
          <p:nvPr/>
        </p:nvPicPr>
        <p:blipFill>
          <a:blip r:embed="rId1"/>
          <a:stretch/>
        </p:blipFill>
        <p:spPr>
          <a:xfrm>
            <a:off x="533520" y="1066680"/>
            <a:ext cx="2666880" cy="381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o Rubik invented the Rubik’s Cu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5410080"/>
            <a:ext cx="716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ubik’s Cub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rch 9, 2010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rubi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afar"/>
          <p:cNvPicPr/>
          <p:nvPr/>
        </p:nvPicPr>
        <p:blipFill>
          <a:blip r:embed="rId3"/>
          <a:srcRect l="0" t="0" r="24661" b="0"/>
          <a:stretch/>
        </p:blipFill>
        <p:spPr>
          <a:xfrm>
            <a:off x="4419720" y="838080"/>
            <a:ext cx="4190760" cy="210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19720" y="3200400"/>
            <a:ext cx="430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bik’s Cube is a cube with 24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and 54 outer su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d1fe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Rubik’s 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o Rubik wanted to put a three column cube together as a challenge to him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Erno made a prototype with 26 square components and 54 outer su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ossible alignments is in the multi millions, but only one is per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me was an instant hit with students and Erno took it to the Hungarian toy marketplace in 197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first, it was named the Magic Cube, but it was changed to be named after Erno Rub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it is still used as a toy as well as a teaching tool in different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9933"/>
            </a:gs>
            <a:gs pos="100000">
              <a:srgbClr val="ff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Erno Rub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o Rubik was born in Budapest, Hungary in 194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earned his degree in architecture in 196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became a teacher in the interior design department at the Academy of Applied Arts and Crafts in Budap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father was an engineer and glider designer and his mother was a writer and art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o’s interest in 3 dimensional objects played a large part in his creation of the Rubik’s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4:52Z</dcterms:created>
  <dc:creator>install</dc:creator>
  <dc:description/>
  <dc:language>en-US</dc:language>
  <cp:lastModifiedBy>install</cp:lastModifiedBy>
  <dcterms:modified xsi:type="dcterms:W3CDTF">2010-03-18T13:40:55Z</dcterms:modified>
  <cp:revision>7</cp:revision>
  <dc:subject/>
  <dc:title>Slide 1</dc:title>
</cp:coreProperties>
</file>